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728-558A-4DD4-8198-9E6FA50B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2AA-302D-4C03-92BB-A2309B7E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E49-E72A-4E1B-B5C3-20373CFA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37D-BA81-4CB8-BE56-E765A7AD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4C2C-B2F3-4DBE-94A5-99329A38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0E1A-1A86-4D46-A9F3-C5DD4C6C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6622-6F50-45A1-82A7-FE3672F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3BF2-9D8B-4EBE-87EE-EE0C7730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D70-78FB-432E-B36B-74E4C3C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B8AC-81C2-445B-A14A-1C81DAB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8D10-8FA8-48E1-A265-4E7DF58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CE7-DE6E-479C-B163-C6421BC5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F9D-15E7-4C6A-9B27-8F2544A0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4087-644A-493D-9DFF-B302B6E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08F0-A9E6-4D59-A20D-C5900056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9FD2-20D4-4EBE-9FBC-99EDAA45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F73-768A-4A7F-B62B-F8A646DB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7AB-8617-43D5-9E4F-A43BC6B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D84-127D-4FCD-8E33-2671737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BF3-BA70-4A2D-A2A3-12F7B120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B6A-0A23-4A9F-B852-46F8237C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CE1-042D-4C55-B8DE-4B60901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F34-C095-4C40-8385-11D0997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AFA-F3C3-48D9-BFD8-6054142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F128-86C1-4DF3-BCE3-969DDC047C46}" type="slidenum"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67b4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37FA-ECB5-4F96-9B84-568B4322B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../devmodules/dragforces/index.html" TargetMode="External"/><Relationship Id="rId2" Type="http://schemas.openxmlformats.org/officeDocument/2006/relationships/hyperlink" Target="file:///../../devmodules/probstat/meanvar/index.html" TargetMode="External"/><Relationship Id="rId3" Type="http://schemas.openxmlformats.org/officeDocument/2006/relationships/hyperlink" Target="file:///../../devmodules/mechanicalosc/vibstring/index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ir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Mark H. Holmes, Mathematics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Robert L. Spilker, Biomedical Engineering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Kenneth S. Manning, Links Technical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76320"/>
            <a:ext cx="7772400" cy="3431520"/>
            <a:chOff x="762120" y="76320"/>
            <a:chExt cx="7772400" cy="3431520"/>
          </a:xfrm>
        </p:grpSpPr>
        <p:pic>
          <p:nvPicPr>
            <p:cNvPr id="148" name="logonew" descr=""/>
            <p:cNvPicPr/>
            <p:nvPr/>
          </p:nvPicPr>
          <p:blipFill>
            <a:blip r:embed="rId1"/>
            <a:stretch/>
          </p:blipFill>
          <p:spPr>
            <a:xfrm>
              <a:off x="762120" y="76320"/>
              <a:ext cx="510516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429000" y="3048120"/>
              <a:ext cx="5105520" cy="459720"/>
            </a:xfrm>
            <a:prstGeom prst="rect">
              <a:avLst/>
            </a:prstGeom>
            <a:noFill/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4a84"/>
                  </a:solidFill>
                  <a:latin typeface="Arial"/>
                </a:rPr>
                <a:t>Rensselaer Polytechnic Institute</a:t>
              </a:r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5145120"/>
            <a:ext cx="7497720" cy="1634760"/>
            <a:chOff x="685800" y="5145120"/>
            <a:chExt cx="7497720" cy="1634760"/>
          </a:xfrm>
        </p:grpSpPr>
        <p:pic>
          <p:nvPicPr>
            <p:cNvPr id="151" name="matc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257800" y="5410080"/>
              <a:ext cx="292572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5800" y="5145120"/>
              <a:ext cx="46483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4a84"/>
                  </a:solidFill>
                  <a:latin typeface="Arial"/>
                </a:rPr>
                <a:t>Funded through</a:t>
              </a:r>
              <a:endParaRPr b="0" lang="en-US" sz="16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Mathematical Sciences and Their Applications Throughout the Curriculum: 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an NSF Initiative</a:t>
              </a: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20920" y="3581280"/>
            <a:ext cx="6759360" cy="2784600"/>
            <a:chOff x="1420920" y="3581280"/>
            <a:chExt cx="6759360" cy="2784600"/>
          </a:xfrm>
        </p:grpSpPr>
        <p:sp>
          <p:nvSpPr>
            <p:cNvPr id="215" name=""/>
            <p:cNvSpPr/>
            <p:nvPr/>
          </p:nvSpPr>
          <p:spPr>
            <a:xfrm>
              <a:off x="1420920" y="4308480"/>
              <a:ext cx="52578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raph Theo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’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16" name="shortpath2" descr=""/>
            <p:cNvPicPr/>
            <p:nvPr/>
          </p:nvPicPr>
          <p:blipFill>
            <a:blip r:embed="rId1"/>
            <a:stretch/>
          </p:blipFill>
          <p:spPr>
            <a:xfrm>
              <a:off x="5334120" y="3581280"/>
              <a:ext cx="2846160" cy="278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45370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447920" y="4237200"/>
            <a:ext cx="7162560" cy="2315880"/>
            <a:chOff x="1447920" y="4237200"/>
            <a:chExt cx="7162560" cy="2315880"/>
          </a:xfrm>
        </p:grpSpPr>
        <p:sp>
          <p:nvSpPr>
            <p:cNvPr id="227" name=""/>
            <p:cNvSpPr/>
            <p:nvPr/>
          </p:nvSpPr>
          <p:spPr>
            <a:xfrm>
              <a:off x="1447920" y="50292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28" name="bktrs-g-s" descr=""/>
            <p:cNvPicPr/>
            <p:nvPr/>
          </p:nvPicPr>
          <p:blipFill>
            <a:blip r:embed="rId1"/>
            <a:stretch/>
          </p:blipFill>
          <p:spPr>
            <a:xfrm>
              <a:off x="4648320" y="4237200"/>
              <a:ext cx="3962160" cy="2087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1757520"/>
            <a:ext cx="6782040" cy="4186080"/>
            <a:chOff x="1295280" y="1757520"/>
            <a:chExt cx="6782040" cy="4186080"/>
          </a:xfrm>
        </p:grpSpPr>
        <p:pic>
          <p:nvPicPr>
            <p:cNvPr id="232" name="bung-bri" descr=""/>
            <p:cNvPicPr/>
            <p:nvPr/>
          </p:nvPicPr>
          <p:blipFill>
            <a:blip r:embed="rId1"/>
            <a:stretch/>
          </p:blipFill>
          <p:spPr>
            <a:xfrm>
              <a:off x="4876920" y="2876400"/>
              <a:ext cx="276048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295280" y="1757520"/>
              <a:ext cx="67820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ultiple Spring Mass System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on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rced 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Vibrating String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95280" y="2252520"/>
            <a:ext cx="6858000" cy="2928960"/>
            <a:chOff x="1295280" y="2252520"/>
            <a:chExt cx="6858000" cy="2928960"/>
          </a:xfrm>
        </p:grpSpPr>
        <p:sp>
          <p:nvSpPr>
            <p:cNvPr id="240" name=""/>
            <p:cNvSpPr/>
            <p:nvPr/>
          </p:nvSpPr>
          <p:spPr>
            <a:xfrm>
              <a:off x="1295280" y="2252520"/>
              <a:ext cx="6705720" cy="27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and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and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41" name="normalcurves" descr=""/>
            <p:cNvPicPr/>
            <p:nvPr/>
          </p:nvPicPr>
          <p:blipFill>
            <a:blip r:embed="rId1"/>
            <a:stretch/>
          </p:blipFill>
          <p:spPr>
            <a:xfrm>
              <a:off x="5410080" y="4097160"/>
              <a:ext cx="274320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5280" y="2709720"/>
            <a:ext cx="6705720" cy="3767400"/>
            <a:chOff x="1295280" y="2709720"/>
            <a:chExt cx="6705720" cy="3767400"/>
          </a:xfrm>
        </p:grpSpPr>
        <p:sp>
          <p:nvSpPr>
            <p:cNvPr id="251" name=""/>
            <p:cNvSpPr/>
            <p:nvPr/>
          </p:nvSpPr>
          <p:spPr>
            <a:xfrm>
              <a:off x="1295280" y="2709720"/>
              <a:ext cx="670572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and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's Law and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magnetic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esistance &amp; Capacitance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's Law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'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52" name="points" descr=""/>
            <p:cNvPicPr/>
            <p:nvPr/>
          </p:nvPicPr>
          <p:blipFill>
            <a:blip r:embed="rId1"/>
            <a:stretch/>
          </p:blipFill>
          <p:spPr>
            <a:xfrm>
              <a:off x="4267080" y="4648320"/>
              <a:ext cx="31244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95280" y="3146400"/>
            <a:ext cx="6782040" cy="3343680"/>
            <a:chOff x="1295280" y="3146400"/>
            <a:chExt cx="6782040" cy="3343680"/>
          </a:xfrm>
        </p:grpSpPr>
        <p:sp>
          <p:nvSpPr>
            <p:cNvPr id="261" name=""/>
            <p:cNvSpPr/>
            <p:nvPr/>
          </p:nvSpPr>
          <p:spPr>
            <a:xfrm>
              <a:off x="1295280" y="3146400"/>
              <a:ext cx="6705720" cy="33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and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and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62" name="vort2" descr=""/>
            <p:cNvPicPr/>
            <p:nvPr/>
          </p:nvPicPr>
          <p:blipFill>
            <a:blip r:embed="rId1"/>
            <a:stretch/>
          </p:blipFill>
          <p:spPr>
            <a:xfrm>
              <a:off x="4648320" y="4762440"/>
              <a:ext cx="342900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295280" y="3429000"/>
            <a:ext cx="6375600" cy="3048120"/>
            <a:chOff x="1295280" y="3429000"/>
            <a:chExt cx="6375600" cy="3048120"/>
          </a:xfrm>
        </p:grpSpPr>
        <p:sp>
          <p:nvSpPr>
            <p:cNvPr id="272" name=""/>
            <p:cNvSpPr/>
            <p:nvPr/>
          </p:nvSpPr>
          <p:spPr>
            <a:xfrm>
              <a:off x="1295280" y="36576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73" name="xtal3" descr=""/>
            <p:cNvPicPr/>
            <p:nvPr/>
          </p:nvPicPr>
          <p:blipFill>
            <a:blip r:embed="rId1"/>
            <a:stretch/>
          </p:blipFill>
          <p:spPr>
            <a:xfrm>
              <a:off x="4343400" y="3429000"/>
              <a:ext cx="332748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2743200"/>
            <a:ext cx="7391520" cy="3211560"/>
            <a:chOff x="1295280" y="2743200"/>
            <a:chExt cx="7391520" cy="3211560"/>
          </a:xfrm>
        </p:grpSpPr>
        <p:sp>
          <p:nvSpPr>
            <p:cNvPr id="284" name=""/>
            <p:cNvSpPr/>
            <p:nvPr/>
          </p:nvSpPr>
          <p:spPr>
            <a:xfrm>
              <a:off x="1295280" y="4038480"/>
              <a:ext cx="44960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 for ODEs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and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85" name="PATENT" descr=""/>
            <p:cNvPicPr/>
            <p:nvPr/>
          </p:nvPicPr>
          <p:blipFill>
            <a:blip r:embed="rId1"/>
            <a:stretch/>
          </p:blipFill>
          <p:spPr>
            <a:xfrm>
              <a:off x="5715000" y="2743200"/>
              <a:ext cx="2971800" cy="321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156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5280" y="3809880"/>
            <a:ext cx="6453360" cy="2735280"/>
            <a:chOff x="1295280" y="3809880"/>
            <a:chExt cx="6453360" cy="2735280"/>
          </a:xfrm>
        </p:grpSpPr>
        <p:sp>
          <p:nvSpPr>
            <p:cNvPr id="297" name=""/>
            <p:cNvSpPr/>
            <p:nvPr/>
          </p:nvSpPr>
          <p:spPr>
            <a:xfrm>
              <a:off x="1295280" y="4419720"/>
              <a:ext cx="44960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'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98" name="shortpath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2795760" cy="273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SAMPLE MODUL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Drag Forces on Solid Objects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Calculus / Transport Phenomena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Means &amp; Variances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Probability &amp; Statistic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Vibrating Strings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ff Eq / Mechanical Osc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Electric Field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Adv Math Methods / E &amp; M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Networking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screte Math / Graph Theor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Bicycle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Linear System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Build a library of interactive learning material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mphasize connections between Mathematics and Applied Scienc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Fit into existing courses rather than creating new cours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arget the Studio/Workshop styles of teach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WWW-based distribu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courses use these modules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rimarily math, science, and engineering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~ 25% upper class / graduate level course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ere is the student during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 a studio class, workshop, or computer lab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 professor, instructor, and/or a TA is available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is the typical time frame for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One to three class periods, as need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many are used per cour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s few as one, as many as desir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will Project Links be disseminated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Web-based distribu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MODULE DEVELOPMENT PROCES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ontent Experts 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Math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Applied Topics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Graduate Students (RAs)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Technical Manager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eb Site Managemen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rogramming Suppor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Learning Theorist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he Evaluation Consortium,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14300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he Ideal Development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REVIEWS &amp; EVALUATION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9640" y="1523520"/>
            <a:ext cx="675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In-house Alpha &amp; Beta Test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ducational Expert Review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lassroom Observatio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Technology Assessment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Student Usability Test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xternal Content Review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Users Manua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87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PROJECT LINK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4793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Arial"/>
              </a:rPr>
              <a:t>Rensselaer Polytechnic Institute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4267080"/>
            <a:ext cx="7772400" cy="9493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http://links.math.rpi.edu/</a:t>
            </a:r>
            <a:endParaRPr b="0" lang="en-US" sz="4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teractive Java and Director applet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aper and pencil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extbook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371600"/>
            <a:ext cx="7924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429000"/>
            <a:ext cx="7924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reate a library of hypertext modules that link topics in math with contemporary applications in science and engineer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648320"/>
            <a:ext cx="79246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stablish criteria and methods for assessing the success of these module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upport other such efforts with workshop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Content Developer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Rensselaer Polytechnic Institute (~ 40 modules)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Hudson Valley Community College (5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Delaware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Siena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Virginia Tech (1 module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valuation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he Evaluation Consortium, 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Maryland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echnical Support Staff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47920" y="1981080"/>
            <a:ext cx="6799320" cy="4267440"/>
            <a:chOff x="1447920" y="1981080"/>
            <a:chExt cx="6799320" cy="4267440"/>
          </a:xfrm>
        </p:grpSpPr>
        <p:pic>
          <p:nvPicPr>
            <p:cNvPr id="177" name="bung-bri" descr=""/>
            <p:cNvPicPr/>
            <p:nvPr/>
          </p:nvPicPr>
          <p:blipFill>
            <a:blip r:embed="rId1"/>
            <a:stretch/>
          </p:blipFill>
          <p:spPr>
            <a:xfrm>
              <a:off x="5486400" y="3181320"/>
              <a:ext cx="27608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447920" y="1981080"/>
              <a:ext cx="525780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ity &amp; Magnetis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chanical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rent &amp; Resistanc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2590920"/>
            <a:ext cx="7010280" cy="3809880"/>
            <a:chOff x="1447920" y="2590920"/>
            <a:chExt cx="7010280" cy="3809880"/>
          </a:xfrm>
        </p:grpSpPr>
        <p:sp>
          <p:nvSpPr>
            <p:cNvPr id="185" name=""/>
            <p:cNvSpPr/>
            <p:nvPr/>
          </p:nvSpPr>
          <p:spPr>
            <a:xfrm>
              <a:off x="1447920" y="2590920"/>
              <a:ext cx="52578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’s Law &amp;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&amp;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xwell’s Equ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gnet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86" name="gauss2d_pc" descr=""/>
            <p:cNvPicPr/>
            <p:nvPr/>
          </p:nvPicPr>
          <p:blipFill>
            <a:blip r:embed="rId1"/>
            <a:stretch/>
          </p:blipFill>
          <p:spPr>
            <a:xfrm>
              <a:off x="4876920" y="3714840"/>
              <a:ext cx="3581280" cy="2685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47920" y="3071880"/>
            <a:ext cx="7130880" cy="3100320"/>
            <a:chOff x="1447920" y="3071880"/>
            <a:chExt cx="7130880" cy="3100320"/>
          </a:xfrm>
        </p:grpSpPr>
        <p:sp>
          <p:nvSpPr>
            <p:cNvPr id="194" name=""/>
            <p:cNvSpPr/>
            <p:nvPr/>
          </p:nvSpPr>
          <p:spPr>
            <a:xfrm>
              <a:off x="1447920" y="3276720"/>
              <a:ext cx="5257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&amp;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&amp;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&amp;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95" name="waterjump" descr=""/>
            <p:cNvPicPr/>
            <p:nvPr/>
          </p:nvPicPr>
          <p:blipFill>
            <a:blip r:embed="rId1"/>
            <a:stretch/>
          </p:blipFill>
          <p:spPr>
            <a:xfrm>
              <a:off x="6095880" y="3071880"/>
              <a:ext cx="248292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47920" y="3809880"/>
            <a:ext cx="7086600" cy="2760840"/>
            <a:chOff x="1447920" y="3809880"/>
            <a:chExt cx="7086600" cy="2760840"/>
          </a:xfrm>
        </p:grpSpPr>
        <p:sp>
          <p:nvSpPr>
            <p:cNvPr id="203" name=""/>
            <p:cNvSpPr/>
            <p:nvPr/>
          </p:nvSpPr>
          <p:spPr>
            <a:xfrm>
              <a:off x="1447920" y="3809880"/>
              <a:ext cx="65530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&amp;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&amp;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04" name="normalcurves" descr=""/>
            <p:cNvPicPr/>
            <p:nvPr/>
          </p:nvPicPr>
          <p:blipFill>
            <a:blip r:embed="rId1"/>
            <a:stretch/>
          </p:blipFill>
          <p:spPr>
            <a:xfrm>
              <a:off x="5791320" y="4572000"/>
              <a:ext cx="274320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16:11:59Z</dcterms:created>
  <dc:creator>Kenneth S. Manning, PhD</dc:creator>
  <dc:description/>
  <dc:language>en-US</dc:language>
  <cp:lastModifiedBy>Kenneth S. Manning, PhD</cp:lastModifiedBy>
  <dcterms:modified xsi:type="dcterms:W3CDTF">2000-09-28T15:25:50Z</dcterms:modified>
  <cp:revision>12</cp:revision>
  <dc:subject/>
  <dc:title>PowerPoint Presentation</dc:title>
</cp:coreProperties>
</file>