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F62-B0F3-4EBC-9F2B-166B1A64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3DE-E4C3-4ABF-9853-D701F90F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4A1-6E44-435E-A84B-34ECF449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B2A1-5247-47B3-B6B0-87970922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CD6C-34DB-4003-A3B6-83723334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C6B8-B2B9-44CC-9737-F8E4FA45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CEC-AA8C-4B44-BEEE-65084B3D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C5FC-9699-403C-BD3B-CF3259E8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A781-6E01-4511-A11B-E210C182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1FA-01BF-4DA1-A2F2-99C3D5E9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F63-6711-41B5-9799-3F5D50E2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CA1-6BE9-4DE3-8C56-CD277537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9861-4485-42F1-B6E0-3EC1AC5D5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09120" y="3505320"/>
            <a:ext cx="7696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 H. Holmes, Mathematics C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ert L. Spilker, Biomedical Engineering C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nneth S. Manning, Links Technical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62120" y="76320"/>
            <a:ext cx="7772400" cy="3797280"/>
            <a:chOff x="762120" y="76320"/>
            <a:chExt cx="7772400" cy="3797280"/>
          </a:xfrm>
        </p:grpSpPr>
        <p:pic>
          <p:nvPicPr>
            <p:cNvPr id="43" name="logonew" descr=""/>
            <p:cNvPicPr/>
            <p:nvPr/>
          </p:nvPicPr>
          <p:blipFill>
            <a:blip r:embed="rId1"/>
            <a:stretch/>
          </p:blipFill>
          <p:spPr>
            <a:xfrm>
              <a:off x="762120" y="76320"/>
              <a:ext cx="5105160" cy="29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429000" y="3048120"/>
              <a:ext cx="5105520" cy="825480"/>
            </a:xfrm>
            <a:prstGeom prst="rect">
              <a:avLst/>
            </a:prstGeom>
            <a:noFill/>
            <a:ln cap="sq"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nsselaer Polytechnic Institut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ttp://links.math.rpi.edu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85800" y="5145120"/>
            <a:ext cx="7497720" cy="1634760"/>
            <a:chOff x="685800" y="5145120"/>
            <a:chExt cx="7497720" cy="1634760"/>
          </a:xfrm>
        </p:grpSpPr>
        <p:pic>
          <p:nvPicPr>
            <p:cNvPr id="46" name="matc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5257800" y="5410080"/>
              <a:ext cx="292572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85800" y="5145120"/>
              <a:ext cx="4648320" cy="16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unded throu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hematical Sciences and Their Applications Throughout the Curriculum: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 NSF Initi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2418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295280" y="3429000"/>
            <a:ext cx="6375600" cy="3048120"/>
            <a:chOff x="1295280" y="3429000"/>
            <a:chExt cx="6375600" cy="3048120"/>
          </a:xfrm>
        </p:grpSpPr>
        <p:sp>
          <p:nvSpPr>
            <p:cNvPr id="114" name=""/>
            <p:cNvSpPr/>
            <p:nvPr/>
          </p:nvSpPr>
          <p:spPr>
            <a:xfrm>
              <a:off x="1295280" y="3657600"/>
              <a:ext cx="52578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rystallograph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trix K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cyc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xtal3" descr=""/>
            <p:cNvPicPr/>
            <p:nvPr/>
          </p:nvPicPr>
          <p:blipFill>
            <a:blip r:embed="rId1"/>
            <a:stretch/>
          </p:blipFill>
          <p:spPr>
            <a:xfrm>
              <a:off x="4343400" y="3429000"/>
              <a:ext cx="3327480" cy="3048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32418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36990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95280" y="2743200"/>
            <a:ext cx="7391520" cy="3211560"/>
            <a:chOff x="1295280" y="2743200"/>
            <a:chExt cx="7391520" cy="3211560"/>
          </a:xfrm>
        </p:grpSpPr>
        <p:sp>
          <p:nvSpPr>
            <p:cNvPr id="126" name=""/>
            <p:cNvSpPr/>
            <p:nvPr/>
          </p:nvSpPr>
          <p:spPr>
            <a:xfrm>
              <a:off x="1295280" y="4038480"/>
              <a:ext cx="449604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undary Value Problems for OD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urvature and Curve 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strained Optim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" name="PATENT" descr=""/>
            <p:cNvPicPr/>
            <p:nvPr/>
          </p:nvPicPr>
          <p:blipFill>
            <a:blip r:embed="rId1"/>
            <a:stretch/>
          </p:blipFill>
          <p:spPr>
            <a:xfrm>
              <a:off x="5715000" y="2743200"/>
              <a:ext cx="2971800" cy="3211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2418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36990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4156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95280" y="3809880"/>
            <a:ext cx="6453360" cy="2735280"/>
            <a:chOff x="1295280" y="3809880"/>
            <a:chExt cx="6453360" cy="2735280"/>
          </a:xfrm>
        </p:grpSpPr>
        <p:sp>
          <p:nvSpPr>
            <p:cNvPr id="139" name=""/>
            <p:cNvSpPr/>
            <p:nvPr/>
          </p:nvSpPr>
          <p:spPr>
            <a:xfrm>
              <a:off x="1295280" y="4419720"/>
              <a:ext cx="449604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dustrial Dril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erner's Lem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etwor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emistr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shortpath" descr=""/>
            <p:cNvPicPr/>
            <p:nvPr/>
          </p:nvPicPr>
          <p:blipFill>
            <a:blip r:embed="rId1"/>
            <a:stretch/>
          </p:blipFill>
          <p:spPr>
            <a:xfrm>
              <a:off x="4952880" y="3809880"/>
              <a:ext cx="2795760" cy="2735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565280"/>
            <a:ext cx="5154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2174760"/>
            <a:ext cx="51544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3429000"/>
            <a:ext cx="51544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4003560"/>
            <a:ext cx="51544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4613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5222880"/>
            <a:ext cx="51544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MOD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g Forces on Solid Objects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Calculus / Transport Phenom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s &amp; Varianc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Probability &amp;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brating Strings 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Diff Eq / Mechanical O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 Field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Adv Math Methods / E &amp;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Discrete Math / Graph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cycl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Linear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urses use these mod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ily math, science, and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25% upper class / graduate level cour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is the student during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studio class, workshop, or computer 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ofessor, instructor, and/or a TA i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typical time frame for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to three class periods, as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any are used per cour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few as one, as many as des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ill Project Links be dissemin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-based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ULE DEVELOPMENT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 Expe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ath Prof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Applied Topics Prof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uate Students (RAs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Sit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ing Suppor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tional Learning Theor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valuation Consortium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Alb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114300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deal Development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S &amp;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69640" y="1523520"/>
            <a:ext cx="675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-house Alpha &amp; Beta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ucational Expert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room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tional Technology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Usability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 Content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 Man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1430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LI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47932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4267080"/>
            <a:ext cx="7772400" cy="9493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ttp://links.math.rpi.edu/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 a library of interactive learning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hasize connections between Mathematics and Applied Sc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t into existing courses rather than creating new 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the Studio/Workshop styles of 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-based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1371600"/>
            <a:ext cx="792468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ote student learning in mathematics, engineering, and science by focusing on the links between thes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urage interactive teaching and learning strategies that use a variety of proven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3429000"/>
            <a:ext cx="7924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library of hypertext modules that link topics in math with contemporary applications in science and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4648320"/>
            <a:ext cx="792468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 criteria and methods for assessing the success of these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other such efforts with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 Develo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nsselaer Polytechnic Institute (~ 40 modul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dson Valley Community College (5 modu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Delaware (2 modu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ena (2 modu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ginia Tech (1 modu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valuation Consortium, University of Alb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Mary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cal Support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1641600"/>
            <a:ext cx="38098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40336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ced Math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316548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39276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&amp;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468936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te Math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545148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295280" y="1986120"/>
            <a:ext cx="6782040" cy="4186080"/>
            <a:chOff x="1295280" y="1986120"/>
            <a:chExt cx="6782040" cy="4186080"/>
          </a:xfrm>
        </p:grpSpPr>
        <p:pic>
          <p:nvPicPr>
            <p:cNvPr id="75" name="bung-bri" descr=""/>
            <p:cNvPicPr/>
            <p:nvPr/>
          </p:nvPicPr>
          <p:blipFill>
            <a:blip r:embed="rId1"/>
            <a:stretch/>
          </p:blipFill>
          <p:spPr>
            <a:xfrm>
              <a:off x="4876920" y="3105000"/>
              <a:ext cx="2760480" cy="30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295280" y="1986120"/>
              <a:ext cx="67820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ple Spring Mass Syst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onlinear Pendul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rced Spring 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near Pendul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ring Pendul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ibrating Str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urier Ser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ring 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2252520"/>
            <a:ext cx="670572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803160" indent="-341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sson and Exponential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1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 Random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1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 Variable 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1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1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s and Vari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1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normalcurves" descr=""/>
          <p:cNvPicPr/>
          <p:nvPr/>
        </p:nvPicPr>
        <p:blipFill>
          <a:blip r:embed="rId1"/>
          <a:stretch/>
        </p:blipFill>
        <p:spPr>
          <a:xfrm>
            <a:off x="5410080" y="4097160"/>
            <a:ext cx="2743200" cy="199872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295280" y="2709720"/>
            <a:ext cx="6705720" cy="3767400"/>
            <a:chOff x="1295280" y="2709720"/>
            <a:chExt cx="6705720" cy="3767400"/>
          </a:xfrm>
        </p:grpSpPr>
        <p:sp>
          <p:nvSpPr>
            <p:cNvPr id="93" name=""/>
            <p:cNvSpPr/>
            <p:nvPr/>
          </p:nvSpPr>
          <p:spPr>
            <a:xfrm>
              <a:off x="1295280" y="2709720"/>
              <a:ext cx="6705720" cy="31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ectrostatic Field and Potent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raday's Law and Ind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ectromagnetic Oscill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sistance &amp; Capacitanc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ectric Fi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mpere's Law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uss's La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points" descr=""/>
            <p:cNvPicPr/>
            <p:nvPr/>
          </p:nvPicPr>
          <p:blipFill>
            <a:blip r:embed="rId1"/>
            <a:stretch/>
          </p:blipFill>
          <p:spPr>
            <a:xfrm>
              <a:off x="4267080" y="4648320"/>
              <a:ext cx="312444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295280" y="3146400"/>
            <a:ext cx="6782040" cy="3343680"/>
            <a:chOff x="1295280" y="3146400"/>
            <a:chExt cx="6782040" cy="3343680"/>
          </a:xfrm>
        </p:grpSpPr>
        <p:sp>
          <p:nvSpPr>
            <p:cNvPr id="103" name=""/>
            <p:cNvSpPr/>
            <p:nvPr/>
          </p:nvSpPr>
          <p:spPr>
            <a:xfrm>
              <a:off x="1295280" y="3146400"/>
              <a:ext cx="6705720" cy="33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emical Kinetics and Equilib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inuously Stirred Tank Rea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ag Forces on Solid Obj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lux and Surface Integ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quential Batch Rea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eat Condu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ss 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ke Poll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 Grad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vort2" descr=""/>
            <p:cNvPicPr/>
            <p:nvPr/>
          </p:nvPicPr>
          <p:blipFill>
            <a:blip r:embed="rId1"/>
            <a:stretch/>
          </p:blipFill>
          <p:spPr>
            <a:xfrm>
              <a:off x="4648320" y="4762440"/>
              <a:ext cx="3429000" cy="1714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6T15:17:00Z</dcterms:created>
  <dc:creator>Kenneth S. Manning, PhD</dc:creator>
  <dc:description/>
  <dc:language>en-US</dc:language>
  <cp:lastModifiedBy>Kenneth S. Manning, PhD</cp:lastModifiedBy>
  <dcterms:modified xsi:type="dcterms:W3CDTF">2000-06-16T15:46:26Z</dcterms:modified>
  <cp:revision>2</cp:revision>
  <dc:subject/>
  <dc:title>PowerPoint Presentation</dc:title>
</cp:coreProperties>
</file>