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62B-5CE5-4008-96E5-CF40188B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B27-5313-4A2F-B66E-3F2C14CB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643-98E6-4761-BF9C-F6AA3641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4E4-44EE-4394-B69A-A77F6CFF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3C94-7CAB-4AD4-9E5F-6D14472A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6DE4-C489-46A6-8C6F-B823D0C0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C676-EFF1-485F-B6FF-C9350516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426-4CAB-4A4C-8F0F-ECEC805A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6C7B-298D-4C5C-A85F-99901208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7490-4886-4DA4-BF83-47EE6447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03F6-8D3E-4989-BCD5-3B6E113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B35-AD1E-4860-8172-9C9E04C4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B763-517F-4DFF-8C99-3534FE2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EC4D-C813-4785-AB82-802EEA2F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862-91DA-4782-BCB9-CE551565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0111-458F-473B-B966-6E61A6C0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D8B2-E71A-482F-AE4A-CAC2C873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A26-66A1-4044-9631-EB88E308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59A-44AE-4F8F-B71E-2BBA54C9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B29-7354-44F3-BCB2-6356398D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AEC-48C5-4457-8D8A-3EBDB136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AAB-0E07-44F4-BEFC-0E692E8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D75-CE67-410D-9D8D-95C4FEE8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FF1-FFDF-4280-AF1E-575E9DB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af0e6"/>
                </a:gs>
                <a:gs pos="50000">
                  <a:srgbClr val="f2deb3"/>
                </a:gs>
                <a:gs pos="100000">
                  <a:srgbClr val="faf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6326-396A-4255-B3E9-33302DD47E1E}" type="slidenum"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67b4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af0e6"/>
                </a:gs>
                <a:gs pos="50000">
                  <a:srgbClr val="f2deb3"/>
                </a:gs>
                <a:gs pos="100000">
                  <a:srgbClr val="faf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2352-DA79-4B0A-B628-38BAC07A2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4a4a8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../../devmodules/dragforces/index.html" TargetMode="External"/><Relationship Id="rId2" Type="http://schemas.openxmlformats.org/officeDocument/2006/relationships/hyperlink" Target="file:///../../../devmodules/probstat/meanvar/index.html" TargetMode="External"/><Relationship Id="rId3" Type="http://schemas.openxmlformats.org/officeDocument/2006/relationships/hyperlink" Target="file:///../../../devmodules/mechanicalosc/vibstring/index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76964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Dir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Mark H. Holmes, Mathematics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Robert L. Spilker, Biomedical Engineering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Kenneth S. Manning, Links Technical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76320"/>
            <a:ext cx="7772400" cy="3797280"/>
            <a:chOff x="762120" y="76320"/>
            <a:chExt cx="7772400" cy="3797280"/>
          </a:xfrm>
        </p:grpSpPr>
        <p:pic>
          <p:nvPicPr>
            <p:cNvPr id="148" name="logonew" descr=""/>
            <p:cNvPicPr/>
            <p:nvPr/>
          </p:nvPicPr>
          <p:blipFill>
            <a:blip r:embed="rId1"/>
            <a:stretch/>
          </p:blipFill>
          <p:spPr>
            <a:xfrm>
              <a:off x="762120" y="76320"/>
              <a:ext cx="510516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429000" y="3048120"/>
              <a:ext cx="5105520" cy="825480"/>
            </a:xfrm>
            <a:prstGeom prst="rect">
              <a:avLst/>
            </a:prstGeom>
            <a:noFill/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a4a84"/>
                  </a:solidFill>
                  <a:latin typeface="Arial"/>
                </a:rPr>
                <a:t>Rensselaer Polytechnic Institute</a:t>
              </a:r>
              <a:br>
                <a:rPr sz="2400"/>
              </a:br>
              <a:r>
                <a:rPr b="1" lang="en-US" sz="2400" spc="-1" strike="noStrike">
                  <a:solidFill>
                    <a:srgbClr val="4a4a84"/>
                  </a:solidFill>
                  <a:latin typeface="Arial"/>
                </a:rPr>
                <a:t>http://links.math.rpi.edu/</a:t>
              </a:r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5145120"/>
            <a:ext cx="7497720" cy="1634760"/>
            <a:chOff x="685800" y="5145120"/>
            <a:chExt cx="7497720" cy="1634760"/>
          </a:xfrm>
        </p:grpSpPr>
        <p:pic>
          <p:nvPicPr>
            <p:cNvPr id="151" name="matc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5257800" y="5410080"/>
              <a:ext cx="292572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5800" y="5145120"/>
              <a:ext cx="464832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a4a84"/>
                  </a:solidFill>
                  <a:latin typeface="Arial"/>
                </a:rPr>
                <a:t>Funded through</a:t>
              </a:r>
              <a:endParaRPr b="0" lang="en-US" sz="16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Mathematical Sciences and Their Applications Throughout the Curriculum: </a:t>
              </a: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an NSF Initiative</a:t>
              </a:r>
              <a:endParaRPr b="0" lang="en-US" sz="1800" spc="-1" strike="noStrike">
                <a:solidFill>
                  <a:srgbClr val="4a4a8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20920" y="3581280"/>
            <a:ext cx="6759360" cy="2784600"/>
            <a:chOff x="1420920" y="3581280"/>
            <a:chExt cx="6759360" cy="2784600"/>
          </a:xfrm>
        </p:grpSpPr>
        <p:sp>
          <p:nvSpPr>
            <p:cNvPr id="215" name=""/>
            <p:cNvSpPr/>
            <p:nvPr/>
          </p:nvSpPr>
          <p:spPr>
            <a:xfrm>
              <a:off x="1420920" y="4308480"/>
              <a:ext cx="52578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raph Theor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erner’s Lemm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str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16" name="shortpath2" descr=""/>
            <p:cNvPicPr/>
            <p:nvPr/>
          </p:nvPicPr>
          <p:blipFill>
            <a:blip r:embed="rId1"/>
            <a:stretch/>
          </p:blipFill>
          <p:spPr>
            <a:xfrm>
              <a:off x="5334120" y="3581280"/>
              <a:ext cx="2846160" cy="278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45370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447920" y="4237200"/>
            <a:ext cx="7162560" cy="2315880"/>
            <a:chOff x="1447920" y="4237200"/>
            <a:chExt cx="7162560" cy="2315880"/>
          </a:xfrm>
        </p:grpSpPr>
        <p:sp>
          <p:nvSpPr>
            <p:cNvPr id="227" name=""/>
            <p:cNvSpPr/>
            <p:nvPr/>
          </p:nvSpPr>
          <p:spPr>
            <a:xfrm>
              <a:off x="1447920" y="50292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28" name="bktrs-g-s" descr=""/>
            <p:cNvPicPr/>
            <p:nvPr/>
          </p:nvPicPr>
          <p:blipFill>
            <a:blip r:embed="rId1"/>
            <a:stretch/>
          </p:blipFill>
          <p:spPr>
            <a:xfrm>
              <a:off x="4648320" y="4237200"/>
              <a:ext cx="3962160" cy="2087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1757520"/>
            <a:ext cx="6782040" cy="4186080"/>
            <a:chOff x="1295280" y="1757520"/>
            <a:chExt cx="6782040" cy="4186080"/>
          </a:xfrm>
        </p:grpSpPr>
        <p:pic>
          <p:nvPicPr>
            <p:cNvPr id="232" name="bung-bri" descr=""/>
            <p:cNvPicPr/>
            <p:nvPr/>
          </p:nvPicPr>
          <p:blipFill>
            <a:blip r:embed="rId1"/>
            <a:stretch/>
          </p:blipFill>
          <p:spPr>
            <a:xfrm>
              <a:off x="4876920" y="2876400"/>
              <a:ext cx="276048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295280" y="1757520"/>
              <a:ext cx="67820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ultiple Spring Mass System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onlinear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rced Spring Mas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inear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ring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Vibrating String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ring Mas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95280" y="2252520"/>
            <a:ext cx="6858000" cy="2928960"/>
            <a:chOff x="1295280" y="2252520"/>
            <a:chExt cx="6858000" cy="2928960"/>
          </a:xfrm>
        </p:grpSpPr>
        <p:sp>
          <p:nvSpPr>
            <p:cNvPr id="240" name=""/>
            <p:cNvSpPr/>
            <p:nvPr/>
          </p:nvSpPr>
          <p:spPr>
            <a:xfrm>
              <a:off x="1295280" y="2252520"/>
              <a:ext cx="6705720" cy="27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Poisson and Exponential Distribu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 Random Variabl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andom Variable Re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ditional Probabilit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ans and Varianc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ventory Contro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41" name="normalcurves" descr=""/>
            <p:cNvPicPr/>
            <p:nvPr/>
          </p:nvPicPr>
          <p:blipFill>
            <a:blip r:embed="rId1"/>
            <a:stretch/>
          </p:blipFill>
          <p:spPr>
            <a:xfrm>
              <a:off x="5410080" y="4097160"/>
              <a:ext cx="274320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5280" y="2709720"/>
            <a:ext cx="6705720" cy="3767400"/>
            <a:chOff x="1295280" y="2709720"/>
            <a:chExt cx="6705720" cy="3767400"/>
          </a:xfrm>
        </p:grpSpPr>
        <p:sp>
          <p:nvSpPr>
            <p:cNvPr id="251" name=""/>
            <p:cNvSpPr/>
            <p:nvPr/>
          </p:nvSpPr>
          <p:spPr>
            <a:xfrm>
              <a:off x="1295280" y="2709720"/>
              <a:ext cx="6705720" cy="31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static Field and Potentia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araday's Law and I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magnetic Oscil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esistance &amp; Capacitance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Ampere's Law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auss'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52" name="points" descr=""/>
            <p:cNvPicPr/>
            <p:nvPr/>
          </p:nvPicPr>
          <p:blipFill>
            <a:blip r:embed="rId1"/>
            <a:stretch/>
          </p:blipFill>
          <p:spPr>
            <a:xfrm>
              <a:off x="4267080" y="4648320"/>
              <a:ext cx="31244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95280" y="3146400"/>
            <a:ext cx="6782040" cy="3343680"/>
            <a:chOff x="1295280" y="3146400"/>
            <a:chExt cx="6782040" cy="3343680"/>
          </a:xfrm>
        </p:grpSpPr>
        <p:sp>
          <p:nvSpPr>
            <p:cNvPr id="261" name=""/>
            <p:cNvSpPr/>
            <p:nvPr/>
          </p:nvSpPr>
          <p:spPr>
            <a:xfrm>
              <a:off x="1295280" y="3146400"/>
              <a:ext cx="6705720" cy="33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cal Kinetics and Equilibri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lux and Surface Integr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Heat Conduction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62" name="vort2" descr=""/>
            <p:cNvPicPr/>
            <p:nvPr/>
          </p:nvPicPr>
          <p:blipFill>
            <a:blip r:embed="rId1"/>
            <a:stretch/>
          </p:blipFill>
          <p:spPr>
            <a:xfrm>
              <a:off x="4648320" y="4762440"/>
              <a:ext cx="342900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295280" y="3429000"/>
            <a:ext cx="6375600" cy="3048120"/>
            <a:chOff x="1295280" y="3429000"/>
            <a:chExt cx="6375600" cy="3048120"/>
          </a:xfrm>
        </p:grpSpPr>
        <p:sp>
          <p:nvSpPr>
            <p:cNvPr id="272" name=""/>
            <p:cNvSpPr/>
            <p:nvPr/>
          </p:nvSpPr>
          <p:spPr>
            <a:xfrm>
              <a:off x="1295280" y="36576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73" name="xtal3" descr=""/>
            <p:cNvPicPr/>
            <p:nvPr/>
          </p:nvPicPr>
          <p:blipFill>
            <a:blip r:embed="rId1"/>
            <a:stretch/>
          </p:blipFill>
          <p:spPr>
            <a:xfrm>
              <a:off x="4343400" y="3429000"/>
              <a:ext cx="332748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2743200"/>
            <a:ext cx="7391520" cy="3211560"/>
            <a:chOff x="1295280" y="2743200"/>
            <a:chExt cx="7391520" cy="3211560"/>
          </a:xfrm>
        </p:grpSpPr>
        <p:sp>
          <p:nvSpPr>
            <p:cNvPr id="284" name=""/>
            <p:cNvSpPr/>
            <p:nvPr/>
          </p:nvSpPr>
          <p:spPr>
            <a:xfrm>
              <a:off x="1295280" y="4038480"/>
              <a:ext cx="44960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oundary Value Problems for ODEs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vature and Curve Desig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85" name="PATENT" descr=""/>
            <p:cNvPicPr/>
            <p:nvPr/>
          </p:nvPicPr>
          <p:blipFill>
            <a:blip r:embed="rId1"/>
            <a:stretch/>
          </p:blipFill>
          <p:spPr>
            <a:xfrm>
              <a:off x="5715000" y="2743200"/>
              <a:ext cx="2971800" cy="321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156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Graph Theory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95280" y="3809880"/>
            <a:ext cx="6453360" cy="2735280"/>
            <a:chOff x="1295280" y="3809880"/>
            <a:chExt cx="6453360" cy="2735280"/>
          </a:xfrm>
        </p:grpSpPr>
        <p:sp>
          <p:nvSpPr>
            <p:cNvPr id="297" name=""/>
            <p:cNvSpPr/>
            <p:nvPr/>
          </p:nvSpPr>
          <p:spPr>
            <a:xfrm>
              <a:off x="1295280" y="4419720"/>
              <a:ext cx="44960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erner's Lemm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stry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98" name="shortpath" descr=""/>
            <p:cNvPicPr/>
            <p:nvPr/>
          </p:nvPicPr>
          <p:blipFill>
            <a:blip r:embed="rId1"/>
            <a:stretch/>
          </p:blipFill>
          <p:spPr>
            <a:xfrm>
              <a:off x="4952880" y="3809880"/>
              <a:ext cx="2795760" cy="273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SAMPLE MODUL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Drag Forces on Solid Objects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Calculus / Transport Phenomena</a:t>
            </a: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Means &amp; Variances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Probability &amp; Statistic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Vibrating Strings</a:t>
            </a: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Diff Eq / Mechanical Osc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Electric Field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Adv Math Methods / E &amp; M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Networking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Discrete Math / Graph Theor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Bicycle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Linear System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Build a library of interactive learning material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mphasize connections between Mathematics and Applied Science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Fit into existing courses rather than creating new course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arget the Studio/Workshop styles of teaching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WWW-based distribution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at courses use these modules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Primarily math, science, and engineering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~ 25% upper class / graduate level course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ere is the student during u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In a studio class, workshop, or computer lab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A professor, instructor, and/or a TA is available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at is the typical time frame for u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One to three class periods, as needed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How many are used per cour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As few as one, as many as desired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How will Project Links be disseminated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Web-based distribution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MODULE DEVELOPMENT PROCES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Content Experts 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ne Math Professor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ne Applied Topics Professor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Graduate Students (RAs)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Technical Manager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eb Site Management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rogramming Support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ducational Learning Theorist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he Evaluation Consortium,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University of Alban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14300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he Ideal Development Team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REVIEWS &amp; EVALUATION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9640" y="1523520"/>
            <a:ext cx="675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In-house Alpha &amp; Beta Testing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ducational Expert Review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Classroom Observatio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ducational Technology Assessment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Student Usability Testing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xternal Content Review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Users Manua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4a84"/>
                </a:solidFill>
                <a:latin typeface="Arial"/>
              </a:rPr>
              <a:t>PROJECT LINK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4793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Arial"/>
              </a:rPr>
              <a:t>Rensselaer Polytechnic Institute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4267080"/>
            <a:ext cx="7772400" cy="94932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4a84"/>
                </a:solidFill>
                <a:latin typeface="Arial"/>
              </a:rPr>
              <a:t>http://links.math.rpi.edu/</a:t>
            </a:r>
            <a:endParaRPr b="0" lang="en-US" sz="4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Interactive Java and Director applet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Paper and pencil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Textbook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371600"/>
            <a:ext cx="79246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b3b3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d5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b3b3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d5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429000"/>
            <a:ext cx="7924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reate a library of hypertext modules that link topics in math with contemporary applications in science and engineering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648320"/>
            <a:ext cx="79246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stablish criteria and methods for assessing the success of these module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upport other such efforts with workshop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Content Developer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Rensselaer Polytechnic Institute (~ 40 modules) 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Hudson Valley Community College (5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University of Delaware (2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Siena (2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Virginia Tech (1 module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valuation Team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The Evaluation Consortium, University of Alban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University of Maryland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echnical Support Staff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47920" y="1981080"/>
            <a:ext cx="6799320" cy="4267440"/>
            <a:chOff x="1447920" y="1981080"/>
            <a:chExt cx="6799320" cy="4267440"/>
          </a:xfrm>
        </p:grpSpPr>
        <p:pic>
          <p:nvPicPr>
            <p:cNvPr id="177" name="bung-bri" descr=""/>
            <p:cNvPicPr/>
            <p:nvPr/>
          </p:nvPicPr>
          <p:blipFill>
            <a:blip r:embed="rId1"/>
            <a:stretch/>
          </p:blipFill>
          <p:spPr>
            <a:xfrm>
              <a:off x="5486400" y="3181320"/>
              <a:ext cx="27608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447920" y="1981080"/>
              <a:ext cx="525780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oundary Value Problem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ity &amp; Magnetis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chanical Oscil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rent &amp; Resistanc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47920" y="2590920"/>
            <a:ext cx="7010280" cy="3809880"/>
            <a:chOff x="1447920" y="2590920"/>
            <a:chExt cx="7010280" cy="3809880"/>
          </a:xfrm>
        </p:grpSpPr>
        <p:sp>
          <p:nvSpPr>
            <p:cNvPr id="185" name=""/>
            <p:cNvSpPr/>
            <p:nvPr/>
          </p:nvSpPr>
          <p:spPr>
            <a:xfrm>
              <a:off x="1447920" y="2590920"/>
              <a:ext cx="52578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araday’s Law &amp; I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lux &amp; Surface Integr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xwell’s Equ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Ampere’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auss’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gnet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186" name="gauss2d_pc" descr=""/>
            <p:cNvPicPr/>
            <p:nvPr/>
          </p:nvPicPr>
          <p:blipFill>
            <a:blip r:embed="rId1"/>
            <a:stretch/>
          </p:blipFill>
          <p:spPr>
            <a:xfrm>
              <a:off x="4876920" y="3714840"/>
              <a:ext cx="3581280" cy="2685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47920" y="3071880"/>
            <a:ext cx="7130880" cy="3100320"/>
            <a:chOff x="1447920" y="3071880"/>
            <a:chExt cx="7130880" cy="3100320"/>
          </a:xfrm>
        </p:grpSpPr>
        <p:sp>
          <p:nvSpPr>
            <p:cNvPr id="194" name=""/>
            <p:cNvSpPr/>
            <p:nvPr/>
          </p:nvSpPr>
          <p:spPr>
            <a:xfrm>
              <a:off x="1447920" y="3276720"/>
              <a:ext cx="5257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cal Kinetics &amp; Equilibri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static Field &amp; Potentia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vature &amp; Curve Desig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Heat Co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195" name="waterjump" descr=""/>
            <p:cNvPicPr/>
            <p:nvPr/>
          </p:nvPicPr>
          <p:blipFill>
            <a:blip r:embed="rId1"/>
            <a:stretch/>
          </p:blipFill>
          <p:spPr>
            <a:xfrm>
              <a:off x="6095880" y="3071880"/>
              <a:ext cx="248292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47920" y="3809880"/>
            <a:ext cx="7086600" cy="2760840"/>
            <a:chOff x="1447920" y="3809880"/>
            <a:chExt cx="7086600" cy="2760840"/>
          </a:xfrm>
        </p:grpSpPr>
        <p:sp>
          <p:nvSpPr>
            <p:cNvPr id="203" name=""/>
            <p:cNvSpPr/>
            <p:nvPr/>
          </p:nvSpPr>
          <p:spPr>
            <a:xfrm>
              <a:off x="1447920" y="3809880"/>
              <a:ext cx="65530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Poisson &amp; Exponential Distribu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 Random Variabl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andom Variable Re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ditional Probabilit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ans &amp; Varianc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ventory Contro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04" name="normalcurves" descr=""/>
            <p:cNvPicPr/>
            <p:nvPr/>
          </p:nvPicPr>
          <p:blipFill>
            <a:blip r:embed="rId1"/>
            <a:stretch/>
          </p:blipFill>
          <p:spPr>
            <a:xfrm>
              <a:off x="5791320" y="4572000"/>
              <a:ext cx="274320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16:11:59Z</dcterms:created>
  <dc:creator>Kenneth S. Manning, PhD</dc:creator>
  <dc:description/>
  <dc:language>en-US</dc:language>
  <cp:lastModifiedBy>Kenneth S. Manning, PhD</cp:lastModifiedBy>
  <dcterms:modified xsi:type="dcterms:W3CDTF">2000-06-15T15:23:12Z</dcterms:modified>
  <cp:revision>13</cp:revision>
  <dc:subject/>
  <dc:title>PowerPoint Presentation</dc:title>
</cp:coreProperties>
</file>