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F72C7-5897-4A7B-94D4-E6A5DE15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2273-E45C-4955-8D60-C5A50C98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7A485-1F3F-47FD-9A1D-38652F280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D2ECE-184E-4E2A-B6EC-191FEB025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9B11-6B45-40E6-AAC0-4C97AF04B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3C2FC-9B33-4685-B202-6B32BF36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DBE8-F14F-407A-946D-33BE36B20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2621-7044-4932-97DC-A1D5D53C1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17E0-C9E7-417C-9B2D-F69DE4EA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6F97-41E7-4B47-B4DE-6AD5F3CA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081C-C59D-4F8D-A1D3-E81859BA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550E-03D2-4208-97E4-08D1942F1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68AE-4B3A-4E34-B1C9-B4E35E1CA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2"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304920"/>
            <a:ext cx="733104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vious slides contain the photos of the Lord and  Goddess Mahalakshmi at Kurichi a village near Mannargudi- about 2 hrs from Kumbakon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rd is known as SriAbheesta Varadaraja Swami meaning the grantor of the heart felt wishes  of his devotees. He is accompanied by his consorts Sri Devi and Bhumi Devi. Although this is my village, I never made the opportunity to visit the village. One fine day, I had a dream of this lord but did not know what the temple was. A few days later I had an ununderstandable urge to visit my village I finally made it. I was shocked to see the dilapidated temple however. The villagers prevented me from entering the somewhat large temple… owing to snakes being seen inside. We took one step at a time however and arranged for a  tubelight. There were thousands of bats , stinging insects and bees.What was worst were stones falling from the ceiling. …yet we were unharmed at the end of this. But for this wonderful co-incidence it was possible that the 600 year old Murthies may have been lost for all time to come since the temple was crumb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tect the holy form of the Lord, we installed wooden planks just above the Lord. Notice the beams in the photo over which we placed planks and the cover mater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in the shrine of the Lord is said to rid one of the ancestral accumulation of suffering known as ‘Pithru Dosh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to Goddess Mahalakshmi known as Perundevi Thayar in this temple, is known for conferring all prosperity. Notice the beamig smile of the Lord, his consorts and especially the most comforting smile of the Divine M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dilapidation in the shr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0:46:52Z</dcterms:created>
  <dc:creator>System 03</dc:creator>
  <dc:description/>
  <dc:language>en-US</dc:language>
  <cp:lastModifiedBy>Ram</cp:lastModifiedBy>
  <dcterms:modified xsi:type="dcterms:W3CDTF">2004-10-11T16:16:06Z</dcterms:modified>
  <cp:revision>3</cp:revision>
  <dc:subject/>
  <dc:title>PowerPoint Presentation</dc:title>
</cp:coreProperties>
</file>